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9C6-E898-481A-B2F2-AAF16E21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98F-D6CC-44FF-BACF-AE72F0BF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E45-B552-408C-9D98-BD01EBDE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40E-9F4A-4A03-81B4-D6439E76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768A-71BE-49B8-AD1C-7DC38491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49E4-19C2-43A0-8A4B-8FBDADFB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926D-1361-4090-B79A-8D17AB0A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6990-AFE8-4515-8394-79464D33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3621-C4FD-4261-99A1-F41ABBE4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012F-BA27-465D-A0F0-54D307AB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D393-C113-45A1-90B8-CDCA21C1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01F-5873-4A3F-8377-AA1072C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ABC7-1ABC-41F0-B204-EFAE4322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4D3D-8AE4-4597-9C52-D3BE1D76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6B39-3548-4A09-9166-2F1E3395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7BE5-95C3-4AF7-8C0F-37FC78ED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7DC9-2D57-4FF5-99B0-E4F1E146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AF2-67E6-49FB-83F9-4D0F11F2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1BD-A958-44C0-B2D5-6222E979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EFC-4DAD-461E-AA50-6905EC33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FA5-177B-400A-B504-799CF49B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80E-3811-46AA-BE8D-3DF3C26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13B-36B2-451D-9A06-2259F072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A21-6A53-40E7-B0A7-79B00F08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C570-8BA7-4826-8C4F-A47B65C0F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EE21-890A-42F3-A1EF-8B73F9A13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hark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Kameron Javan Christop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 you think sharks are interesting? If so read to find out more about them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5419800" cy="3047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arks have been around for four hundred million years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shark’s tooth falls out, then another tooth will com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5334120" cy="426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ull sharks have been found 1,000 miles away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828880" y="198108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ull sharks can swim through salt water to clear water.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me sharks can smell blood from far far away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929628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ger sharks can swim very f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iger sharks can swim very fast by using their tail.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iger sharks can be orange and black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a shark’s defense, they b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4952880" cy="2819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arks have really good teeth for biting and for protection and for guarding.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metimes sharks sink their teeth into other animals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47920" y="3581280"/>
            <a:ext cx="769608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 hope you had a great time reading about sharks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5105520" cy="441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7:22Z</dcterms:modified>
  <cp:revision>4</cp:revision>
  <dc:subject/>
  <dc:title>Animal Name</dc:title>
</cp:coreProperties>
</file>